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0f7"/>
            </a:gs>
            <a:gs pos="50000">
              <a:srgbClr val="b5ddf9"/>
            </a:gs>
            <a:gs pos="100000">
              <a:srgbClr val="97d0f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2087640" y="7308720"/>
            <a:ext cx="7993080" cy="252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7308720"/>
            <a:ext cx="2160720" cy="25272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3048480" y="729288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400" spc="-1" strike="noStrike">
                <a:solidFill>
                  <a:srgbClr val="ffcf01"/>
                </a:solidFill>
                <a:latin typeface="Tahoma"/>
              </a:rPr>
              <a:t>Министерство общего и профессионального образования Свердловской област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0" y="0"/>
            <a:ext cx="3311640" cy="68436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3240000" y="0"/>
            <a:ext cx="6840720" cy="68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0f7"/>
            </a:gs>
            <a:gs pos="50000">
              <a:srgbClr val="b5ddf9"/>
            </a:gs>
            <a:gs pos="100000">
              <a:srgbClr val="97d0f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87640" y="7308720"/>
            <a:ext cx="7993080" cy="252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7308720"/>
            <a:ext cx="2160720" cy="25272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048480" y="729288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400" spc="-1" strike="noStrike">
                <a:solidFill>
                  <a:srgbClr val="ffcf01"/>
                </a:solidFill>
                <a:latin typeface="Tahoma"/>
              </a:rPr>
              <a:t>Министерство общего и профессионального образования Свердловской област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3311640" cy="25236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240000" y="0"/>
            <a:ext cx="6840720" cy="252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0" y="36360"/>
            <a:ext cx="10080720" cy="7561440"/>
          </a:xfrm>
          <a:prstGeom prst="rect">
            <a:avLst/>
          </a:prstGeom>
          <a:gradFill rotWithShape="0">
            <a:gsLst>
              <a:gs pos="0">
                <a:srgbClr val="002142"/>
              </a:gs>
              <a:gs pos="50000">
                <a:srgbClr val="00478e"/>
              </a:gs>
              <a:gs pos="100000">
                <a:srgbClr val="0021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8" descr="OBL_gerb"/>
          <p:cNvPicPr/>
          <p:nvPr/>
        </p:nvPicPr>
        <p:blipFill>
          <a:blip r:embed="rId1"/>
          <a:stretch/>
        </p:blipFill>
        <p:spPr>
          <a:xfrm>
            <a:off x="3527280" y="0"/>
            <a:ext cx="2880000" cy="2041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26"/>
          <p:cNvSpPr/>
          <p:nvPr/>
        </p:nvSpPr>
        <p:spPr>
          <a:xfrm>
            <a:off x="826920" y="2340000"/>
            <a:ext cx="86061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О выполнении в 2020 году плана работы Министерства образования и молодежной политики Свердловской област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по противодействию коррупции на 2018–2020 годы, утвержденного приказом Министерства образования и молодежной политики Свердловской област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от 28.09.2018 № 458-Д «Об утверждении Плана работы Министерства общего и профессионального образования Свердловской области по противодействию коррупци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на 2018–2019 годы» (с изменениями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68360" y="-36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ть образовательных учреждений,                                       подведомственных Министерству образования (в единицах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47"/>
          <p:cNvSpPr/>
          <p:nvPr/>
        </p:nvSpPr>
        <p:spPr>
          <a:xfrm>
            <a:off x="0" y="19130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46"/>
          <p:cNvGraphicFramePr/>
          <p:nvPr/>
        </p:nvGraphicFramePr>
        <p:xfrm>
          <a:off x="0" y="1189080"/>
          <a:ext cx="9439200" cy="61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9080"/>
                    <a:ext cx="9439200" cy="61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53"/>
          <p:cNvSpPr/>
          <p:nvPr/>
        </p:nvSpPr>
        <p:spPr>
          <a:xfrm>
            <a:off x="144360" y="684360"/>
            <a:ext cx="101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сего подведомственных Министерству образования организаций - 1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376360" y="1332000"/>
            <a:ext cx="36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0" y="-1764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бор сведений о доходах, об имуществе и обязательствах имущественного характера руководителей подведомственных образовательных учрежд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87280" y="1211400"/>
          <a:ext cx="9506160" cy="1920600"/>
        </p:xfrm>
        <a:graphic>
          <a:graphicData uri="http://schemas.openxmlformats.org/drawingml/2006/table">
            <a:tbl>
              <a:tblPr/>
              <a:tblGrid>
                <a:gridCol w="9506160"/>
              </a:tblGrid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Указ Губернатора Свердловской области от 25 февраля 2013 года № 91-УГ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«О Порядке предоставления гражданами, претендующими на замещение должностей руководителей государственных учреждений Свердловской области, и руководителями государственных учреждений Свердловской области сведений о доходах, об имуществе и обязательствах имущественного характе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87280" y="4175280"/>
          <a:ext cx="4537080" cy="21938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21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9 году сведения представили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– </a:t>
                      </a: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1 руководител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 70 граждан, претендующих на замещение должности руководи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221440" y="4168800"/>
          <a:ext cx="4537080" cy="21938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254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0 году сведения представили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– </a:t>
                      </a: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2 руководител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 63 гражданина, претендующего на замещение должности руководител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246"/>
          <p:cNvSpPr/>
          <p:nvPr/>
        </p:nvSpPr>
        <p:spPr>
          <a:xfrm>
            <a:off x="936720" y="-36360"/>
            <a:ext cx="90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 количества обращений граждан, содержащих сведения                          о коррупционных проявлениях (по годам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31640" y="1252440"/>
          <a:ext cx="9434520" cy="5241960"/>
        </p:xfrm>
        <a:graphic>
          <a:graphicData uri="http://schemas.openxmlformats.org/drawingml/2006/table">
            <a:tbl>
              <a:tblPr/>
              <a:tblGrid>
                <a:gridCol w="936720"/>
                <a:gridCol w="1297080"/>
                <a:gridCol w="1871640"/>
                <a:gridCol w="2519280"/>
                <a:gridCol w="2809800"/>
              </a:tblGrid>
              <a:tr h="283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ери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бщее количество письменных обращ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обращений, содержащих информацию о коррупционных проявлениях / % от общего числа обращ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обращений, содержащих информацию о коррупционных проявлениях, переданных в правоохранительные органы / % от числа обращений, содержащих информацию о коррупционных проявле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Количество обращений, </a:t>
                      </a: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держащих информацию о коррупционных проявлениях, на основании которых образовательные организации были включены в план проверок финансово-хозяйственной деятельности / % от числа обращений, содержащих информацию о коррупционных проявле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</a:tr>
              <a:tr h="63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 /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 / 4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/ 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3 /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 / 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 / 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9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9 / 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3 /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 / 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 / 0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 /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/ 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60360" y="7128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-73080" y="36360"/>
            <a:ext cx="10080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деятельности Министерства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431640" y="755640"/>
            <a:ext cx="9288720" cy="1512720"/>
          </a:xfrm>
          <a:prstGeom prst="roundRect">
            <a:avLst>
              <a:gd name="adj" fmla="val 16667"/>
            </a:avLst>
          </a:prstGeom>
          <a:solidFill>
            <a:srgbClr val="ffcc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03280" y="684360"/>
            <a:ext cx="9577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333399"/>
                </a:solidFill>
                <a:uFillTx/>
                <a:latin typeface="Tahoma"/>
              </a:rPr>
              <a:t>Основная задача</a:t>
            </a:r>
            <a:r>
              <a:rPr b="0" lang="ru-RU" sz="2300" spc="-1" strike="noStrike">
                <a:solidFill>
                  <a:srgbClr val="333399"/>
                </a:solidFill>
                <a:latin typeface="Tahoma"/>
              </a:rPr>
              <a:t> - совершенствование системы контроля за финансово-хозяйственной деятельностью и профилактики коррупционных правонарушений в подведомственных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ahoma"/>
              </a:rPr>
              <a:t>Министерству учреждения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31640" y="241128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504720" y="2359080"/>
            <a:ext cx="89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рганизация работы Комиссии Министерства образования по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431640" y="313200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503280" y="306072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троль за деятельностью по профилактике и противодействию коррупции в подведомственных учрежд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14"/>
          <p:cNvSpPr/>
          <p:nvPr/>
        </p:nvSpPr>
        <p:spPr>
          <a:xfrm>
            <a:off x="431640" y="385272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03280" y="378144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Антикоррупционное просвещение гражданских служащих Министерства, руководителей, обучающихся и их родителей, гражд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AutoShape 16"/>
          <p:cNvSpPr/>
          <p:nvPr/>
        </p:nvSpPr>
        <p:spPr>
          <a:xfrm>
            <a:off x="431640" y="457200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03280" y="450072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ведение плановых аудиторских проверок подведомственных учрежд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18"/>
          <p:cNvSpPr/>
          <p:nvPr/>
        </p:nvSpPr>
        <p:spPr>
          <a:xfrm>
            <a:off x="431640" y="5292720"/>
            <a:ext cx="9288720" cy="6476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03280" y="522144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рганизационные разъяснительные и иные меры с подведомственными учреждениями по профилактике коррупционных правонару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431640" y="6013440"/>
            <a:ext cx="9288720" cy="100800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504720" y="6014880"/>
            <a:ext cx="892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бор сведений о доходах, об имуществе и обязательствах имущественного характера руководителей подведомственных образовательных учреждений и членов их сем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16000" y="36360"/>
            <a:ext cx="9864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онная структура Министерства образования по вопрос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филактики и противодействия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5904000" y="2484360"/>
            <a:ext cx="0" cy="2521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30"/>
          <p:cNvSpPr/>
          <p:nvPr/>
        </p:nvSpPr>
        <p:spPr>
          <a:xfrm>
            <a:off x="287280" y="755640"/>
            <a:ext cx="9433080" cy="936720"/>
          </a:xfrm>
          <a:prstGeom prst="roundRect">
            <a:avLst>
              <a:gd name="adj" fmla="val 16667"/>
            </a:avLst>
          </a:prstGeom>
          <a:solidFill>
            <a:srgbClr val="ccffcc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144360" y="612720"/>
            <a:ext cx="993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Цель деятельности Министерства образования в сфере противодействия коррупции - устранение причин и условий, порождающих коррупцию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32"/>
          <p:cNvSpPr/>
          <p:nvPr/>
        </p:nvSpPr>
        <p:spPr>
          <a:xfrm>
            <a:off x="1944720" y="1763640"/>
            <a:ext cx="612144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1944720" y="1792440"/>
            <a:ext cx="611964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щественный совет Министерства 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представите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216000" y="3060720"/>
            <a:ext cx="2879640" cy="23749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216000" y="3147840"/>
            <a:ext cx="287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служебному поведению государственных гражданских служащих Министерства образования и урегулированию конфликта интере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38"/>
          <p:cNvSpPr/>
          <p:nvPr/>
        </p:nvSpPr>
        <p:spPr>
          <a:xfrm>
            <a:off x="3240000" y="3060720"/>
            <a:ext cx="2592360" cy="144000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3384720" y="3035160"/>
            <a:ext cx="230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противодействию коррупции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41"/>
          <p:cNvSpPr/>
          <p:nvPr/>
        </p:nvSpPr>
        <p:spPr>
          <a:xfrm>
            <a:off x="6048360" y="2916360"/>
            <a:ext cx="3887640" cy="201600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6119640" y="2846520"/>
            <a:ext cx="38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проведению конкурсов на замещение вакантных должностей государственной гражданской службы Свердловской области и включения в кадровый резерв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44"/>
          <p:cNvSpPr/>
          <p:nvPr/>
        </p:nvSpPr>
        <p:spPr>
          <a:xfrm>
            <a:off x="3168720" y="5005440"/>
            <a:ext cx="5111640" cy="9349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3240000" y="500544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для проведения аттестации государственных гражданских служащих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47"/>
          <p:cNvSpPr/>
          <p:nvPr/>
        </p:nvSpPr>
        <p:spPr>
          <a:xfrm>
            <a:off x="4535640" y="2484360"/>
            <a:ext cx="0" cy="576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9"/>
          <p:cNvSpPr/>
          <p:nvPr/>
        </p:nvSpPr>
        <p:spPr>
          <a:xfrm>
            <a:off x="7056360" y="2484360"/>
            <a:ext cx="0" cy="432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50"/>
          <p:cNvSpPr/>
          <p:nvPr/>
        </p:nvSpPr>
        <p:spPr>
          <a:xfrm>
            <a:off x="2232000" y="2484360"/>
            <a:ext cx="0" cy="576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51"/>
          <p:cNvSpPr/>
          <p:nvPr/>
        </p:nvSpPr>
        <p:spPr>
          <a:xfrm>
            <a:off x="287280" y="6156360"/>
            <a:ext cx="9433080" cy="1081080"/>
          </a:xfrm>
          <a:prstGeom prst="roundRect">
            <a:avLst>
              <a:gd name="adj" fmla="val 16667"/>
            </a:avLst>
          </a:prstGeom>
          <a:solidFill>
            <a:srgbClr val="cc99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2"/>
          <p:cNvSpPr/>
          <p:nvPr/>
        </p:nvSpPr>
        <p:spPr>
          <a:xfrm>
            <a:off x="431640" y="6141960"/>
            <a:ext cx="849816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сего в Министерстве образования принято 76 НПА, регулирующих деятельность в сфере противодействия коррупции, из ни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1 принято в 2019 году, 5 – в 2020 го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11160"/>
            <a:ext cx="100807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деятельности Министерства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44360" y="755640"/>
            <a:ext cx="9720360" cy="79200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16000" y="684360"/>
            <a:ext cx="8712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государственными гражданскими служащими Министерства образования (общая численность – 144 человек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44360" y="1692360"/>
            <a:ext cx="9720360" cy="107928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6000" y="1627200"/>
            <a:ext cx="95774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подведомственными Министерству образования государственными образовательными учреждениями Свердловской области (общая численность – 190 учреждени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44360" y="291636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16000" y="2935440"/>
            <a:ext cx="95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иными образовательными организациями 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144360" y="378000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16000" y="3727440"/>
            <a:ext cx="95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еспечение открытости для граждан информации о деятельности Министерства образования, в том числе по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44360" y="464508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16000" y="4570560"/>
            <a:ext cx="9504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ониторинг обращений граждан, содержащих информацию о коррупционных проявл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144360" y="5508720"/>
            <a:ext cx="9720360" cy="107928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87280" y="5437080"/>
            <a:ext cx="94330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коррупционных правонарушений при проведении процедуры государственной (итоговой) аттестации (включая единый государственный экзаме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44360" y="6732720"/>
            <a:ext cx="9720360" cy="504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87280" y="6732720"/>
            <a:ext cx="575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ahoma"/>
              </a:rPr>
              <a:t>Иные направления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4360" y="-36360"/>
            <a:ext cx="9936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ятельность Комиссии по соблюдению требовани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служебному поведению и урегулированию конфликта интере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87280" y="971640"/>
            <a:ext cx="979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360" y="828720"/>
          <a:ext cx="9720360" cy="131112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ложение о Комиссии утверждено приказом Министерства от 19.08.2010 № 262-л                «Об утверждении положения о Комиссии по соблюдению требований к служебному поведению государственными гражданскими служащими Министерства и урегулированию конфликтов интересов» (в новой редакции от 05.09.2014 № 297-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44360" y="2268360"/>
          <a:ext cx="9720360" cy="131148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Состав Комиссии утвержден приказом Министерства от 06.05.2013 № 226-л  «Об утверждении состава Комиссии по соблюдению требований к служебному поведению государственными гражданскими служащими Министерства и урегулированию конфликтов интересов»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16000" y="378144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заседаний 5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527280" y="378144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заседаний 2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840360" y="3781440"/>
          <a:ext cx="3024360" cy="86364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 заседания 4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16000" y="5292720"/>
          <a:ext cx="3168720" cy="184788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84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ведомления бывшего гражданского служаще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19 год – 0 уведомлений 2020 год – 1 уведом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6" name="Text Box 124"/>
          <p:cNvSpPr/>
          <p:nvPr/>
        </p:nvSpPr>
        <p:spPr>
          <a:xfrm>
            <a:off x="216000" y="4716360"/>
            <a:ext cx="93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сновные вопросы, рассматриваемы на Коми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672000" y="5292720"/>
          <a:ext cx="4464000" cy="184464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2165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7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Соблюдение государственными служащими требований к служебному поведению и урегулированию конфликта интересов (в т.ч. о предоставлении недостоверных сведений о доходах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7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9 год – 4 случаев, 2020 год – 2 случ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280360" y="5292720"/>
          <a:ext cx="1513080" cy="86364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44360" y="108000"/>
            <a:ext cx="9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ятельность Комиссии по противодействию Коррупции Министерст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87280" y="971640"/>
            <a:ext cx="979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360" y="828720"/>
          <a:ext cx="9720360" cy="122400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ложение и состав Комиссии утвержден приказом Министерства от 23.12.2014                № 427-Л «О Комиссии по противодействию коррупции Министерства общего и профессионального образования Свердловской области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16000" y="234000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й 36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527280" y="234000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й 3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769080" y="2340000"/>
          <a:ext cx="3166920" cy="86364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1072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 заседания 2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98360" y="3914640"/>
          <a:ext cx="9666360" cy="3033720"/>
        </p:xfrm>
        <a:graphic>
          <a:graphicData uri="http://schemas.openxmlformats.org/drawingml/2006/table">
            <a:tbl>
              <a:tblPr/>
              <a:tblGrid>
                <a:gridCol w="9666360"/>
              </a:tblGrid>
              <a:tr h="3033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б организации работы по противодействию коррупции в подведомственных Министерству учреждениях (в 2018 году заслушано 8 руководителей,                в 2019 году – 8, в 2020 году –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 результатах устранения нарушений, выявленных в ходе проведения проверок финансово-хозяйственной деятельности учре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 контроле за исполнением плана Министерства по противодействию корруп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7" name="Text Box 124"/>
          <p:cNvSpPr/>
          <p:nvPr/>
        </p:nvSpPr>
        <p:spPr>
          <a:xfrm>
            <a:off x="287280" y="3348000"/>
            <a:ext cx="93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сновные вопросы, рассматриваемы на Коми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-77760"/>
            <a:ext cx="10080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бор сведений о доходах, расходах, об имуществе и обязательствах имущественного характера государственных служащих Министерства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6000" y="900000"/>
          <a:ext cx="9720000" cy="792360"/>
        </p:xfrm>
        <a:graphic>
          <a:graphicData uri="http://schemas.openxmlformats.org/drawingml/2006/table">
            <a:tbl>
              <a:tblPr/>
              <a:tblGrid>
                <a:gridCol w="972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еречень должностей, замещение которых связано с коррупционными рисками, утвержден приказом Министерства от 29.04.2015 № 177-Л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256360" y="1981080"/>
          <a:ext cx="4537080" cy="114300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0 году сведения представили – 68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гражданских служащи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03280" y="1981080"/>
          <a:ext cx="3960720" cy="114300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9 году сведения представили – 65 гражданских служащи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3280" y="3421080"/>
          <a:ext cx="4249800" cy="352728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420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о 4 проверка достоверности и полноты сведений и 1 проверка по осуществлению контроля за расхода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к дисциплинарной ответственности привлечены 2 гражданских служащих, 1 гражданский служащий уволен за утрату дове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256360" y="3421080"/>
          <a:ext cx="4537080" cy="13683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3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рки достоверности и полноты сведений не проводилис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0" y="-1764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рки соблюдения государственными служащими Министерства образования запретов, ограничений и требований к служебному поведе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6000" y="826920"/>
          <a:ext cx="9720000" cy="854280"/>
        </p:xfrm>
        <a:graphic>
          <a:graphicData uri="http://schemas.openxmlformats.org/drawingml/2006/table">
            <a:tbl>
              <a:tblPr/>
              <a:tblGrid>
                <a:gridCol w="972000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Федеральный закон от 27 июля 2004 года № 79-Ф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«О государственной гражданской службе Российской Федерац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545080" y="1981080"/>
          <a:ext cx="4032360" cy="100656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0 году провед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рки не проводи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4560" y="1981080"/>
          <a:ext cx="3961080" cy="100656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9 году провед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 проверок в отношен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 гражданских служащ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44360" y="3132000"/>
          <a:ext cx="4824360" cy="3816360"/>
        </p:xfrm>
        <a:graphic>
          <a:graphicData uri="http://schemas.openxmlformats.org/drawingml/2006/table">
            <a:tbl>
              <a:tblPr/>
              <a:tblGrid>
                <a:gridCol w="4824360"/>
              </a:tblGrid>
              <a:tr h="381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результаты 11 проверок рассмотрены на заседании Комиссии по служебному поведению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7 гражданским служащим принято решение применить дисциплинарное взыскание (1 – выговор,  6 – замечан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 4 гражданским служащим принято решение о признании совершения нарушения, но взыскание не применять, т.к. данные нарушения совершены по невнимательности (без умысла) и малозначитель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224000" y="181080"/>
            <a:ext cx="885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Меры по выявлению случаев возникновения конфликта интересов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44360" y="755640"/>
            <a:ext cx="9720360" cy="93672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16000" y="684360"/>
            <a:ext cx="957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уведомления Министра о фактах обращения в целях склонения гражданских служащих к совершению коррупционных правонарушений (в 2019–2020 годах подобные уведомления не поступа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18"/>
          <p:cNvSpPr/>
          <p:nvPr/>
        </p:nvSpPr>
        <p:spPr>
          <a:xfrm>
            <a:off x="144360" y="1763640"/>
            <a:ext cx="9720360" cy="122400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216000" y="1692360"/>
            <a:ext cx="95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уведомления представителя нанимателя гражданскими служащими о возникновении личной заинтересованности, которая приводит или может привести к конфликту интересов. Заведен журнал регистрации уведомлений (в 2019–2020 годах подобные уведомления не поступали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21"/>
          <p:cNvSpPr/>
          <p:nvPr/>
        </p:nvSpPr>
        <p:spPr>
          <a:xfrm>
            <a:off x="144360" y="3060720"/>
            <a:ext cx="9720360" cy="1800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216000" y="2989440"/>
            <a:ext cx="957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сообщения гражданскими служащими о получении подарка в связи с их должностным положением или исполнением ими служебных (должностных) обязанностей, сдачи и оценки подарка, реализации (выкупа) и зачисления средств, вырученных от его реализации. Заведен журнал регистрации уведомлений (в 2019–2020 подобные уведомления не поступа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24"/>
          <p:cNvSpPr/>
          <p:nvPr/>
        </p:nvSpPr>
        <p:spPr>
          <a:xfrm>
            <a:off x="144360" y="4932360"/>
            <a:ext cx="9720360" cy="1584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216000" y="4900680"/>
            <a:ext cx="95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 здании Министерства образования, в местах предоставления государственных услуг, в служебных помещениях, где на регулярной основе осуществляется взаимодействие с гражданами и организациями, размещены объявления антикоррупционного  содержания. В данных помещениях установлены камеры видеонаблюд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144360" y="6661080"/>
            <a:ext cx="9720360" cy="468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216000" y="666108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ные ме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44360" y="55440"/>
            <a:ext cx="9936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онные, разъяснительные и иные меры по соблюдению гражданскими служащими обязанностей, установленных в целях противодействия корруп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44360" y="746280"/>
          <a:ext cx="9791640" cy="1736640"/>
        </p:xfrm>
        <a:graphic>
          <a:graphicData uri="http://schemas.openxmlformats.org/drawingml/2006/table">
            <a:tbl>
              <a:tblPr/>
              <a:tblGrid>
                <a:gridCol w="97916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тодические рекомендации по осуществлению комплекса организационных, разъяснительных и иных мер по недопущению должностными лицами поведения, которое может восприниматься окружающими как обещание дачи взятки или предложение дачи взятки либо как согласие принять взятку или как просьба о даче взятки (письмо Министерства труда и социальной защиты Российской Федерации от 10.07.2013 № 18-2/10/2-38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44360" y="2629080"/>
          <a:ext cx="3527640" cy="1223640"/>
        </p:xfrm>
        <a:graphic>
          <a:graphicData uri="http://schemas.openxmlformats.org/drawingml/2006/table">
            <a:tbl>
              <a:tblPr/>
              <a:tblGrid>
                <a:gridCol w="3527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0 году проведена 1 учебы по антикоррупционной тематике с гражданскими служащими Минис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887640" y="2629080"/>
          <a:ext cx="2737080" cy="302256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31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ы консультации гражданских служащих по вопросам противодействия коррупц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19 году - 244 индивидуальных и 2 групп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0 году – 221 и 1 соответ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44360" y="4068720"/>
          <a:ext cx="3527640" cy="1463760"/>
        </p:xfrm>
        <a:graphic>
          <a:graphicData uri="http://schemas.openxmlformats.org/drawingml/2006/table">
            <a:tbl>
              <a:tblPr/>
              <a:tblGrid>
                <a:gridCol w="35276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Начальникам структурных подразделений Министерства выдана литература антикоррупционного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4360" y="5869080"/>
          <a:ext cx="6480360" cy="132552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13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нформация о работе  Министерства по профилактике коррупционных и иных правонарушений размещается на сайте Министерства в рубрике «Противодействие коррупции», а также на одноименном информационном стенде в здании Минис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840360" y="2629080"/>
          <a:ext cx="3095640" cy="44798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5303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и проведении конкурса на замещение вакантных должностей конкурсантам в обязательном порядке задаются вопросы о нормах законодательства по противодействию коррупции, об ограничениях, запретах и обязанностях, связанных с прохождением гражданской службой, а также об этике служебного поведения государственных гражданских служа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2:09:27Z</dcterms:created>
  <dc:creator>Ирина</dc:creator>
  <dc:description/>
  <dc:language>en-US</dc:language>
  <cp:lastModifiedBy>Каратаева Елена Владимировна</cp:lastModifiedBy>
  <cp:lastPrinted>2019-01-23T07:34:59Z</cp:lastPrinted>
  <dcterms:modified xsi:type="dcterms:W3CDTF">2021-01-18T12:15:33Z</dcterms:modified>
  <cp:revision>357</cp:revision>
  <dc:subject/>
  <dc:title>Разработка эффективных механизмов реализации инвестиционных проектов в Свердловской области  Министерство культуры и туризма  Свердловской области</dc:title>
</cp:coreProperties>
</file>