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720" y="437076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376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72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228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984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4720" y="303120"/>
            <a:ext cx="90727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376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720" y="437076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376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72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7228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984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4720" y="303120"/>
            <a:ext cx="90727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376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d0f7"/>
            </a:gs>
            <a:gs pos="50000">
              <a:srgbClr val="b5ddf9"/>
            </a:gs>
            <a:gs pos="100000">
              <a:srgbClr val="97d0f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2087640" y="7308720"/>
            <a:ext cx="7993080" cy="252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3"/>
          <p:cNvSpPr/>
          <p:nvPr/>
        </p:nvSpPr>
        <p:spPr>
          <a:xfrm>
            <a:off x="0" y="7308720"/>
            <a:ext cx="2160720" cy="252720"/>
          </a:xfrm>
          <a:prstGeom prst="rect">
            <a:avLst/>
          </a:prstGeom>
          <a:gradFill rotWithShape="0">
            <a:gsLst>
              <a:gs pos="0">
                <a:srgbClr val="1192e9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3048480" y="7292880"/>
            <a:ext cx="74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400" spc="-1" strike="noStrike">
                <a:solidFill>
                  <a:srgbClr val="ffcf01"/>
                </a:solidFill>
                <a:latin typeface="Tahoma"/>
              </a:rPr>
              <a:t>Министерство общего и профессионального образования Свердловской област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15"/>
          <p:cNvSpPr/>
          <p:nvPr/>
        </p:nvSpPr>
        <p:spPr>
          <a:xfrm>
            <a:off x="0" y="0"/>
            <a:ext cx="3311640" cy="684360"/>
          </a:xfrm>
          <a:prstGeom prst="rect">
            <a:avLst/>
          </a:prstGeom>
          <a:gradFill rotWithShape="0">
            <a:gsLst>
              <a:gs pos="0">
                <a:srgbClr val="1192e9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18"/>
          <p:cNvSpPr/>
          <p:nvPr/>
        </p:nvSpPr>
        <p:spPr>
          <a:xfrm>
            <a:off x="3240000" y="0"/>
            <a:ext cx="6840720" cy="684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d0f7"/>
            </a:gs>
            <a:gs pos="50000">
              <a:srgbClr val="b5ddf9"/>
            </a:gs>
            <a:gs pos="100000">
              <a:srgbClr val="97d0f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087640" y="7308720"/>
            <a:ext cx="7993080" cy="252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7308720"/>
            <a:ext cx="2160720" cy="252720"/>
          </a:xfrm>
          <a:prstGeom prst="rect">
            <a:avLst/>
          </a:prstGeom>
          <a:gradFill rotWithShape="0">
            <a:gsLst>
              <a:gs pos="0">
                <a:srgbClr val="1192e9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048480" y="7292880"/>
            <a:ext cx="74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400" spc="-1" strike="noStrike">
                <a:solidFill>
                  <a:srgbClr val="ffcf01"/>
                </a:solidFill>
                <a:latin typeface="Tahoma"/>
              </a:rPr>
              <a:t>Министерство общего и профессионального образования Свердловской област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0"/>
            <a:ext cx="3311640" cy="252360"/>
          </a:xfrm>
          <a:prstGeom prst="rect">
            <a:avLst/>
          </a:prstGeom>
          <a:gradFill rotWithShape="0">
            <a:gsLst>
              <a:gs pos="0">
                <a:srgbClr val="1192e9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240000" y="0"/>
            <a:ext cx="6840720" cy="252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2"/>
          <p:cNvSpPr/>
          <p:nvPr/>
        </p:nvSpPr>
        <p:spPr>
          <a:xfrm>
            <a:off x="0" y="36360"/>
            <a:ext cx="10080720" cy="7561440"/>
          </a:xfrm>
          <a:prstGeom prst="rect">
            <a:avLst/>
          </a:prstGeom>
          <a:gradFill rotWithShape="0">
            <a:gsLst>
              <a:gs pos="0">
                <a:srgbClr val="002142"/>
              </a:gs>
              <a:gs pos="50000">
                <a:srgbClr val="00478e"/>
              </a:gs>
              <a:gs pos="100000">
                <a:srgbClr val="00214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Picture 8" descr="OBL_gerb"/>
          <p:cNvPicPr/>
          <p:nvPr/>
        </p:nvPicPr>
        <p:blipFill>
          <a:blip r:embed="rId1"/>
          <a:stretch/>
        </p:blipFill>
        <p:spPr>
          <a:xfrm>
            <a:off x="3527280" y="0"/>
            <a:ext cx="2880000" cy="20415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026"/>
          <p:cNvSpPr/>
          <p:nvPr/>
        </p:nvSpPr>
        <p:spPr>
          <a:xfrm>
            <a:off x="826920" y="2340000"/>
            <a:ext cx="860616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ffd629"/>
                </a:solidFill>
                <a:latin typeface="Tahoma"/>
                <a:ea typeface="Tahoma"/>
              </a:rPr>
              <a:t>О выполнении в 2019 году плана работы Министерства образования и молодежной политики Свердловской области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ffd629"/>
                </a:solidFill>
                <a:latin typeface="Tahoma"/>
                <a:ea typeface="Tahoma"/>
              </a:rPr>
              <a:t>по противодействию коррупции на 2018–2020 годы, утвержденного приказом Министерства образования и молодежной политики Свердловской области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ffd629"/>
                </a:solidFill>
                <a:latin typeface="Tahoma"/>
                <a:ea typeface="Tahoma"/>
              </a:rPr>
              <a:t>от 28.09.2018 № 458-Д «Об утверждении Плана работы Министерства общего и профессионального образования Свердловской области по противодействию коррупции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ffd629"/>
                </a:solidFill>
                <a:latin typeface="Tahoma"/>
                <a:ea typeface="Tahoma"/>
              </a:rPr>
              <a:t>на 2018–2019 годы»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68360" y="-363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ть образовательных учреждений,                                       подведомственных Министерству образования (в единицах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0" y="19130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Object 46"/>
          <p:cNvGraphicFramePr/>
          <p:nvPr/>
        </p:nvGraphicFramePr>
        <p:xfrm>
          <a:off x="0" y="1189080"/>
          <a:ext cx="9439200" cy="618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9080"/>
                    <a:ext cx="9439200" cy="61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 Box 53"/>
          <p:cNvSpPr/>
          <p:nvPr/>
        </p:nvSpPr>
        <p:spPr>
          <a:xfrm>
            <a:off x="144360" y="684360"/>
            <a:ext cx="101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Всего подведомственных Министерству образования организаций - 18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376360" y="1332000"/>
            <a:ext cx="360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0" y="-17640"/>
            <a:ext cx="100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бор сведений о доходах, об имуществе и обязательствах имущественного характера руководителей подведомственных образовательных учрежд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87280" y="828720"/>
          <a:ext cx="9506160" cy="1920960"/>
        </p:xfrm>
        <a:graphic>
          <a:graphicData uri="http://schemas.openxmlformats.org/drawingml/2006/table">
            <a:tbl>
              <a:tblPr/>
              <a:tblGrid>
                <a:gridCol w="9506160"/>
              </a:tblGrid>
              <a:tr h="22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Указ Губернатора Свердловской области от 25 февраля 2013 года № 91-УГ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«О Порядке предоставления гражданами, претендующими на замещение должностей руководителей государственных учреждений Свердловской области, и руководителями государственных учреждений Свердловской области сведений о доходах, об имуществе и обязательствах имущественного характер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87280" y="2916360"/>
          <a:ext cx="4537080" cy="219384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2193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8 году сведения представили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– </a:t>
                      </a: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79 руководителе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и 90 граждан, претендующих на замещение должности руководителе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87280" y="5292720"/>
          <a:ext cx="9506160" cy="1920960"/>
        </p:xfrm>
        <a:graphic>
          <a:graphicData uri="http://schemas.openxmlformats.org/drawingml/2006/table">
            <a:tbl>
              <a:tblPr/>
              <a:tblGrid>
                <a:gridCol w="950616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8 году по результатам проверки Прокуратурой Свердловской области возбуждено 60 проверок достоверности и полноты сведений о доходах, об имуществе и обязательствах имущественного характера, предоставленных  руководителями государственных учреждений Свердловской области, подведомственных Министерств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9 году оснований для проведения проверок не бы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256360" y="2916360"/>
          <a:ext cx="4537080" cy="219384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2193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9 году сведения представили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– </a:t>
                      </a: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71 руководителе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и 70 граждан, претендующих на замещение должности руководителе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246"/>
          <p:cNvSpPr/>
          <p:nvPr/>
        </p:nvSpPr>
        <p:spPr>
          <a:xfrm>
            <a:off x="936720" y="-36360"/>
            <a:ext cx="90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намика количества обращений граждан, содержащих сведения                          о коррупционных проявлениях (по годам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31640" y="1252440"/>
          <a:ext cx="9434520" cy="5241960"/>
        </p:xfrm>
        <a:graphic>
          <a:graphicData uri="http://schemas.openxmlformats.org/drawingml/2006/table">
            <a:tbl>
              <a:tblPr/>
              <a:tblGrid>
                <a:gridCol w="936720"/>
                <a:gridCol w="1297080"/>
                <a:gridCol w="1871640"/>
                <a:gridCol w="2519280"/>
                <a:gridCol w="2809800"/>
              </a:tblGrid>
              <a:tr h="283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ери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Общее количество письменных обраще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личество обращений, содержащих информацию о коррупционных проявлениях / % от общего числа обраще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личество обращений, содержащих информацию о коррупционных проявлениях, переданных в правоохранительные органы / % от числа обращений, содержащих информацию о коррупционных проявления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Количество обращений, </a:t>
                      </a: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держащих информацию о коррупционных проявлениях, на основании которых образовательные организации были включены в план проверок финансово-хозяйственной деятельности / % от числа обращений, содержащих информацию о коррупционных проявления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bfd"/>
                    </a:solidFill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7 / 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1 / 7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 / 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 / 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 / 4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 / 1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3 / 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 / 6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 / 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9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9 / 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3 /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 / 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360360" y="7128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-73080" y="36360"/>
            <a:ext cx="1008072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ые направления деятельности Министерства образован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профилактике и противодействию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431640" y="755640"/>
            <a:ext cx="9288720" cy="1512720"/>
          </a:xfrm>
          <a:prstGeom prst="roundRect">
            <a:avLst>
              <a:gd name="adj" fmla="val 16667"/>
            </a:avLst>
          </a:prstGeom>
          <a:solidFill>
            <a:srgbClr val="ffcc99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03280" y="684360"/>
            <a:ext cx="95774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333399"/>
                </a:solidFill>
                <a:uFillTx/>
                <a:latin typeface="Tahoma"/>
              </a:rPr>
              <a:t>Основная задача</a:t>
            </a:r>
            <a:r>
              <a:rPr b="0" lang="ru-RU" sz="2300" spc="-1" strike="noStrike">
                <a:solidFill>
                  <a:srgbClr val="333399"/>
                </a:solidFill>
                <a:latin typeface="Tahoma"/>
              </a:rPr>
              <a:t> - совершенствование системы контроля за финансово-хозяйственной деятельностью и профилактики коррупционных правонарушений в подведомственных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99"/>
                </a:solidFill>
                <a:latin typeface="Tahoma"/>
              </a:rPr>
              <a:t>Министерству учреждениях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431640" y="2411280"/>
            <a:ext cx="9288720" cy="64944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04720" y="2359080"/>
            <a:ext cx="892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Организация работы Комиссии Министерства образования по противодействию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AutoShape 12"/>
          <p:cNvSpPr/>
          <p:nvPr/>
        </p:nvSpPr>
        <p:spPr>
          <a:xfrm>
            <a:off x="431640" y="3132000"/>
            <a:ext cx="9288720" cy="64944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503280" y="306072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Контроль за деятельностью по профилактике и противодействию коррупции в подведомственных учреждени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AutoShape 14"/>
          <p:cNvSpPr/>
          <p:nvPr/>
        </p:nvSpPr>
        <p:spPr>
          <a:xfrm>
            <a:off x="431640" y="3852720"/>
            <a:ext cx="9288720" cy="64944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503280" y="3781440"/>
            <a:ext cx="892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Антикоррупционное просвещение гражданских служащих Министерства, руководителей, обучающихся и их родителей, гражда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16"/>
          <p:cNvSpPr/>
          <p:nvPr/>
        </p:nvSpPr>
        <p:spPr>
          <a:xfrm>
            <a:off x="431640" y="4572000"/>
            <a:ext cx="9288720" cy="64944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503280" y="450072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оведение плановых аудиторских проверок подведомственных учрежд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18"/>
          <p:cNvSpPr/>
          <p:nvPr/>
        </p:nvSpPr>
        <p:spPr>
          <a:xfrm>
            <a:off x="431640" y="5292720"/>
            <a:ext cx="9288720" cy="64764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503280" y="5221440"/>
            <a:ext cx="892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Организационные разъяснительные и иные меры с подведомственными учреждениями по профилактике коррупционных правонару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20"/>
          <p:cNvSpPr/>
          <p:nvPr/>
        </p:nvSpPr>
        <p:spPr>
          <a:xfrm>
            <a:off x="431640" y="6013440"/>
            <a:ext cx="9288720" cy="100800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504720" y="6014880"/>
            <a:ext cx="892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бор сведений о доходах, об имуществе и обязательствах имущественного характера руководителей подведомственных образовательных учреждений и членов их сем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16000" y="36360"/>
            <a:ext cx="986472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онная структура Министерства образования по вопрос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филактики и противодействия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Line 25"/>
          <p:cNvSpPr/>
          <p:nvPr/>
        </p:nvSpPr>
        <p:spPr>
          <a:xfrm>
            <a:off x="5904000" y="2484360"/>
            <a:ext cx="0" cy="25210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AutoShape 30"/>
          <p:cNvSpPr/>
          <p:nvPr/>
        </p:nvSpPr>
        <p:spPr>
          <a:xfrm>
            <a:off x="287280" y="755640"/>
            <a:ext cx="9433080" cy="936720"/>
          </a:xfrm>
          <a:prstGeom prst="roundRect">
            <a:avLst>
              <a:gd name="adj" fmla="val 16667"/>
            </a:avLst>
          </a:prstGeom>
          <a:solidFill>
            <a:srgbClr val="ccffcc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144360" y="612720"/>
            <a:ext cx="9936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Цель деятельности Министерства образования в сфере противодействия коррупции - устранение причин и условий, порождающих коррупцию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AutoShape 32"/>
          <p:cNvSpPr/>
          <p:nvPr/>
        </p:nvSpPr>
        <p:spPr>
          <a:xfrm>
            <a:off x="1944720" y="1763640"/>
            <a:ext cx="612144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33"/>
          <p:cNvSpPr/>
          <p:nvPr/>
        </p:nvSpPr>
        <p:spPr>
          <a:xfrm>
            <a:off x="1944720" y="1792440"/>
            <a:ext cx="611964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Общественный совет Министерства образова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(представител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35"/>
          <p:cNvSpPr/>
          <p:nvPr/>
        </p:nvSpPr>
        <p:spPr>
          <a:xfrm>
            <a:off x="216000" y="3060720"/>
            <a:ext cx="2879640" cy="2374920"/>
          </a:xfrm>
          <a:prstGeom prst="roundRect">
            <a:avLst>
              <a:gd name="adj" fmla="val 16667"/>
            </a:avLst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37"/>
          <p:cNvSpPr/>
          <p:nvPr/>
        </p:nvSpPr>
        <p:spPr>
          <a:xfrm>
            <a:off x="216000" y="3147840"/>
            <a:ext cx="287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Комиссия по служебному поведению государственных гражданских служащих Министерства образования и урегулированию конфликта интерес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38"/>
          <p:cNvSpPr/>
          <p:nvPr/>
        </p:nvSpPr>
        <p:spPr>
          <a:xfrm>
            <a:off x="3240000" y="3060720"/>
            <a:ext cx="2592360" cy="1440000"/>
          </a:xfrm>
          <a:prstGeom prst="roundRect">
            <a:avLst>
              <a:gd name="adj" fmla="val 16667"/>
            </a:avLst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39"/>
          <p:cNvSpPr/>
          <p:nvPr/>
        </p:nvSpPr>
        <p:spPr>
          <a:xfrm>
            <a:off x="3384720" y="3035160"/>
            <a:ext cx="230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Комиссия по противодействию коррупции Министерства образ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41"/>
          <p:cNvSpPr/>
          <p:nvPr/>
        </p:nvSpPr>
        <p:spPr>
          <a:xfrm>
            <a:off x="6048360" y="2916360"/>
            <a:ext cx="3887640" cy="2016000"/>
          </a:xfrm>
          <a:prstGeom prst="roundRect">
            <a:avLst>
              <a:gd name="adj" fmla="val 16667"/>
            </a:avLst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6119640" y="2846520"/>
            <a:ext cx="38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Комиссия по проведению конкурсов на замещение вакантных должностей государственной гражданской службы Свердловской области и включения в кадровый резерв Министерства образ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AutoShape 44"/>
          <p:cNvSpPr/>
          <p:nvPr/>
        </p:nvSpPr>
        <p:spPr>
          <a:xfrm>
            <a:off x="3168720" y="5005440"/>
            <a:ext cx="5111640" cy="934920"/>
          </a:xfrm>
          <a:prstGeom prst="roundRect">
            <a:avLst>
              <a:gd name="adj" fmla="val 16667"/>
            </a:avLst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45"/>
          <p:cNvSpPr/>
          <p:nvPr/>
        </p:nvSpPr>
        <p:spPr>
          <a:xfrm>
            <a:off x="3240000" y="500544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Комиссия для проведения аттестации государственных гражданских служащих Министерства образ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Line 47"/>
          <p:cNvSpPr/>
          <p:nvPr/>
        </p:nvSpPr>
        <p:spPr>
          <a:xfrm>
            <a:off x="4535640" y="2484360"/>
            <a:ext cx="0" cy="576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49"/>
          <p:cNvSpPr/>
          <p:nvPr/>
        </p:nvSpPr>
        <p:spPr>
          <a:xfrm>
            <a:off x="7056360" y="2484360"/>
            <a:ext cx="0" cy="432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50"/>
          <p:cNvSpPr/>
          <p:nvPr/>
        </p:nvSpPr>
        <p:spPr>
          <a:xfrm>
            <a:off x="2232000" y="2484360"/>
            <a:ext cx="0" cy="576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AutoShape 51"/>
          <p:cNvSpPr/>
          <p:nvPr/>
        </p:nvSpPr>
        <p:spPr>
          <a:xfrm>
            <a:off x="287280" y="6156360"/>
            <a:ext cx="9433080" cy="1081080"/>
          </a:xfrm>
          <a:prstGeom prst="roundRect">
            <a:avLst>
              <a:gd name="adj" fmla="val 16667"/>
            </a:avLst>
          </a:prstGeom>
          <a:solidFill>
            <a:srgbClr val="cc99ff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52"/>
          <p:cNvSpPr/>
          <p:nvPr/>
        </p:nvSpPr>
        <p:spPr>
          <a:xfrm>
            <a:off x="431640" y="6141960"/>
            <a:ext cx="849816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Всего в Министерстве образования принято 105 НПА, регулирующих деятельность в сфере противодействия коррупции, из них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9 принято в 2018 году, 11 – в 2019 год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0" y="11160"/>
            <a:ext cx="100807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ые направления деятельности Министерства образован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профилактике и противодействию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44360" y="755640"/>
            <a:ext cx="9720360" cy="79200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16000" y="684360"/>
            <a:ext cx="87120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абота с государственными гражданскими служащими Министерства образования (общая численность – 131 человек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144360" y="1692360"/>
            <a:ext cx="9720360" cy="107928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16000" y="1627200"/>
            <a:ext cx="957744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абота с подведомственными Министерству образования государственными образовательными учреждениями Свердловской области (общая численность – 189 учреждений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144360" y="2916360"/>
            <a:ext cx="9720360" cy="72072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16000" y="2935440"/>
            <a:ext cx="95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абота с иными образовательными организациями по профилактике и противодействию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144360" y="3780000"/>
            <a:ext cx="9720360" cy="72072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16000" y="3727440"/>
            <a:ext cx="95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Обеспечение открытости для граждан информации о деятельности Министерства образования, в том числе по противодействию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144360" y="4645080"/>
            <a:ext cx="9720360" cy="72072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16000" y="4570560"/>
            <a:ext cx="95043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Мониторинг обращений граждан, содержащих информацию о коррупционных проявлени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14"/>
          <p:cNvSpPr/>
          <p:nvPr/>
        </p:nvSpPr>
        <p:spPr>
          <a:xfrm>
            <a:off x="144360" y="5508720"/>
            <a:ext cx="9720360" cy="107928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287280" y="5437080"/>
            <a:ext cx="94330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офилактика коррупционных правонарушений при проведении процедуры государственной (итоговой) аттестации (включая единый государственный экзамен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44360" y="6732720"/>
            <a:ext cx="9720360" cy="50472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287280" y="6732720"/>
            <a:ext cx="5759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ahoma"/>
              </a:rPr>
              <a:t>Иные направления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44360" y="-36360"/>
            <a:ext cx="99363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ятельность Комиссии по соблюдению требовани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 служебному поведению и урегулированию конфликта интерес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287280" y="971640"/>
            <a:ext cx="9793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360" y="828720"/>
          <a:ext cx="9720360" cy="1311120"/>
        </p:xfrm>
        <a:graphic>
          <a:graphicData uri="http://schemas.openxmlformats.org/drawingml/2006/table">
            <a:tbl>
              <a:tblPr/>
              <a:tblGrid>
                <a:gridCol w="9720360"/>
              </a:tblGrid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оложение о Комиссии утверждено приказом Министерства от 19.08.2010 № 262-л                «Об утверждении положения о Комиссии по соблюдению требований к служебному поведению государственными гражданскими служащими Министерства и урегулированию конфликтов интересов» (в новой редакции от 05.09.2014 № 297-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44360" y="2268360"/>
          <a:ext cx="9720360" cy="1311480"/>
        </p:xfrm>
        <a:graphic>
          <a:graphicData uri="http://schemas.openxmlformats.org/drawingml/2006/table">
            <a:tbl>
              <a:tblPr/>
              <a:tblGrid>
                <a:gridCol w="972036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Состав Комиссии утвержден приказом Министерства от 06.05.2013 № 226-л  «Об утверждении состава Комиссии по соблюдению требований к служебному поведению государственными гражданскими служащими Министерства и урегулированию конфликтов интересов» (с изменения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16000" y="3781440"/>
          <a:ext cx="3168720" cy="86364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7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 заседаний 10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527280" y="3781440"/>
          <a:ext cx="3168720" cy="86364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8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 заседаний 5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840360" y="3781440"/>
          <a:ext cx="3024360" cy="863640"/>
        </p:xfrm>
        <a:graphic>
          <a:graphicData uri="http://schemas.openxmlformats.org/drawingml/2006/table">
            <a:tbl>
              <a:tblPr/>
              <a:tblGrid>
                <a:gridCol w="302436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9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 заседания 2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16000" y="5292720"/>
          <a:ext cx="3168720" cy="184788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1852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ведомления государственных служащих о выполнении иной оплачиваемой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18 год – 0 уведомлений 2019 год – 0 уведомл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6" name="Text Box 124"/>
          <p:cNvSpPr/>
          <p:nvPr/>
        </p:nvSpPr>
        <p:spPr>
          <a:xfrm>
            <a:off x="216000" y="4716360"/>
            <a:ext cx="93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сновные вопросы, рассматриваемы на Комисс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672000" y="5292720"/>
          <a:ext cx="4464000" cy="1844640"/>
        </p:xfrm>
        <a:graphic>
          <a:graphicData uri="http://schemas.openxmlformats.org/drawingml/2006/table">
            <a:tbl>
              <a:tblPr/>
              <a:tblGrid>
                <a:gridCol w="4464000"/>
              </a:tblGrid>
              <a:tr h="2165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7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Соблюдение государственными служащими требований к служебному поведению и урегулированию конфликта интересов (в т.ч. о предоставлении недостоверных сведений о доходах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7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8 год – 4 случаев, 2019 год – 2 случ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8280360" y="5292720"/>
          <a:ext cx="1513080" cy="863640"/>
        </p:xfrm>
        <a:graphic>
          <a:graphicData uri="http://schemas.openxmlformats.org/drawingml/2006/table">
            <a:tbl>
              <a:tblPr/>
              <a:tblGrid>
                <a:gridCol w="151308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44360" y="108000"/>
            <a:ext cx="9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ятельность Комиссии по противодействию Коррупции Министерств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287280" y="971640"/>
            <a:ext cx="9793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4360" y="828720"/>
          <a:ext cx="9720360" cy="1224000"/>
        </p:xfrm>
        <a:graphic>
          <a:graphicData uri="http://schemas.openxmlformats.org/drawingml/2006/table">
            <a:tbl>
              <a:tblPr/>
              <a:tblGrid>
                <a:gridCol w="972036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оложение и состав Комиссии утвержден приказом Министерства от 23.12.2014                № 427-Л «О Комиссии по противодействию коррупции Министерства общего и профессионального образования Свердловской области (с изменения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16000" y="2340000"/>
          <a:ext cx="3168720" cy="86364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7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 заседаний 40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527280" y="2340000"/>
          <a:ext cx="3168720" cy="86364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8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 заседаний 36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769080" y="2340000"/>
          <a:ext cx="3166920" cy="863640"/>
        </p:xfrm>
        <a:graphic>
          <a:graphicData uri="http://schemas.openxmlformats.org/drawingml/2006/table">
            <a:tbl>
              <a:tblPr/>
              <a:tblGrid>
                <a:gridCol w="3166920"/>
              </a:tblGrid>
              <a:tr h="1072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9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 заседания 30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98360" y="3914640"/>
          <a:ext cx="9666360" cy="3033720"/>
        </p:xfrm>
        <a:graphic>
          <a:graphicData uri="http://schemas.openxmlformats.org/drawingml/2006/table">
            <a:tbl>
              <a:tblPr/>
              <a:tblGrid>
                <a:gridCol w="9666360"/>
              </a:tblGrid>
              <a:tr h="3033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Об организации работы по противодействию коррупции в подведомственных Министерству учреждениях (в 2017 году заслушано 9 руководителей, в 2018 году – 8, в 2019 году – 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О результатах устранения нарушений, выявленных в ходе проведения проверок финансово-хозяйственной деятельности учреж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О контроле за исполнением плана Министерства по противодействию корруп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Иные 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7" name="Text Box 124"/>
          <p:cNvSpPr/>
          <p:nvPr/>
        </p:nvSpPr>
        <p:spPr>
          <a:xfrm>
            <a:off x="287280" y="3348000"/>
            <a:ext cx="93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сновные вопросы, рассматриваемы на Комисс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-77760"/>
            <a:ext cx="10080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бор сведений о доходах, расходах, об имуществе и обязательствах имущественного характера государственных служащих Министерства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16000" y="900000"/>
          <a:ext cx="9720000" cy="792360"/>
        </p:xfrm>
        <a:graphic>
          <a:graphicData uri="http://schemas.openxmlformats.org/drawingml/2006/table">
            <a:tbl>
              <a:tblPr/>
              <a:tblGrid>
                <a:gridCol w="9720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еречень должностей, замещение которых связано с коррупционными рисками, утвержден приказом Министерства от 29.04.2015 № 177-Л (с изменения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256360" y="1981080"/>
          <a:ext cx="4537080" cy="114300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9 году сведения представили – 65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гражданских служащи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03280" y="1981080"/>
          <a:ext cx="3960720" cy="114300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8 году сведения представили – 59 гражданских служащи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03280" y="3421080"/>
          <a:ext cx="4249800" cy="3527280"/>
        </p:xfrm>
        <a:graphic>
          <a:graphicData uri="http://schemas.openxmlformats.org/drawingml/2006/table">
            <a:tbl>
              <a:tblPr/>
              <a:tblGrid>
                <a:gridCol w="4249800"/>
              </a:tblGrid>
              <a:tr h="4203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роведено 4 проверка достоверности и полноты сведений и 1 проверка по осуществлению контроля за расходам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Результат</a:t>
                      </a:r>
                      <a:r>
                        <a:rPr b="0" lang="ru-RU" sz="2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: к дисциплинарной ответственности привлечены 2 гражданских служащих, 1 гражданский служащий уволен за утрату дове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5256360" y="3421080"/>
          <a:ext cx="4537080" cy="352728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352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роведено 12 проверок достоверности и полноты сведен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Результат</a:t>
                      </a:r>
                      <a:r>
                        <a:rPr b="0" lang="ru-RU" sz="2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: к дисциплинарной ответственности привлечены 7 гражданских служащи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0" y="-17640"/>
            <a:ext cx="100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рки соблюдения государственными служащими Министерства образования запретов, ограничений и требований к служебному поведени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16000" y="826920"/>
          <a:ext cx="9720000" cy="854280"/>
        </p:xfrm>
        <a:graphic>
          <a:graphicData uri="http://schemas.openxmlformats.org/drawingml/2006/table">
            <a:tbl>
              <a:tblPr/>
              <a:tblGrid>
                <a:gridCol w="9720000"/>
              </a:tblGrid>
              <a:tr h="86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Федеральный закон от 27 июля 2004 года № 79-Ф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«О государственной гражданской службе Российской Федераци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545080" y="1981080"/>
          <a:ext cx="4032360" cy="100656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8 году проведе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2 проверок в отношен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2 гражданских служащ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74560" y="1981080"/>
          <a:ext cx="3961080" cy="1006560"/>
        </p:xfrm>
        <a:graphic>
          <a:graphicData uri="http://schemas.openxmlformats.org/drawingml/2006/table">
            <a:tbl>
              <a:tblPr/>
              <a:tblGrid>
                <a:gridCol w="396108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8 году проведе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 проверок в отношен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 гражданских служащ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44360" y="3132000"/>
          <a:ext cx="4824360" cy="3816360"/>
        </p:xfrm>
        <a:graphic>
          <a:graphicData uri="http://schemas.openxmlformats.org/drawingml/2006/table">
            <a:tbl>
              <a:tblPr/>
              <a:tblGrid>
                <a:gridCol w="4824360"/>
              </a:tblGrid>
              <a:tr h="3816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Результат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: результаты всех проверок рассмотрены на заседании Комиссии по служебному поведению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о 3 гражданским служащим принято решение применить дисциплинарное взыскание, в том числе по 1 – уволить за утрату довери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о 2 гражданским служащим принято решение о признании совершения нарушения, но взыскание не применять, т.к. данные нарушения совершены по невнимательности (без умысла) и малозначитель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219640" y="3132000"/>
          <a:ext cx="4680000" cy="37958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380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Результат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: результаты 11 проверок рассмотрены на заседании Комиссии по служебному поведению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о 7 гражданским служащим принято решение применить дисциплинарное взыскание               (1 – выговор, 6 – замечани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о 4 гражданским служащим принято решение о признании совершения нарушения, но взыскание не применять, т.к. данные нарушения совершены по невнимательности (без умысла) и малозначитель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224000" y="181080"/>
            <a:ext cx="885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Меры по выявлению случаев возникновения конфликта интересов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144360" y="755640"/>
            <a:ext cx="9720360" cy="936720"/>
          </a:xfrm>
          <a:prstGeom prst="flowChartAlternateProcess">
            <a:avLst/>
          </a:prstGeom>
          <a:solidFill>
            <a:srgbClr val="00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16000" y="684360"/>
            <a:ext cx="957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Утвержден порядок уведомления Министра о фактах обращения в целях склонения гражданских служащих к совершению коррупционных правонарушений (в 2018–2019 годах подобные уведомления не поступал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AutoShape 18"/>
          <p:cNvSpPr/>
          <p:nvPr/>
        </p:nvSpPr>
        <p:spPr>
          <a:xfrm>
            <a:off x="144360" y="1763640"/>
            <a:ext cx="9720360" cy="1224000"/>
          </a:xfrm>
          <a:prstGeom prst="flowChartAlternateProcess">
            <a:avLst/>
          </a:prstGeom>
          <a:solidFill>
            <a:srgbClr val="00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216000" y="1692360"/>
            <a:ext cx="957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Утвержден порядок уведомления представителя нанимателя гражданскими служащими о возникновении личной заинтересованности, которая приводит или может привести к конфликту интересов. Заведен журнал регистрации уведомлений (в 2018–2019 годах подобные уведомления не поступали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21"/>
          <p:cNvSpPr/>
          <p:nvPr/>
        </p:nvSpPr>
        <p:spPr>
          <a:xfrm>
            <a:off x="144360" y="3060720"/>
            <a:ext cx="9720360" cy="1800360"/>
          </a:xfrm>
          <a:prstGeom prst="flowChartAlternateProcess">
            <a:avLst/>
          </a:prstGeom>
          <a:solidFill>
            <a:srgbClr val="00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216000" y="2989440"/>
            <a:ext cx="957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Утвержден порядок сообщения гражданскими служащими о получении подарка в связи с их должностным положением или исполнением ими служебных (должностных) обязанностей, сдачи и оценки подарка, реализации (выкупа) и зачисления средств, вырученных от его реализации. Заведен журнал регистрации уведомлений (в 2018–2019 подобные уведомления не поступал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utoShape 24"/>
          <p:cNvSpPr/>
          <p:nvPr/>
        </p:nvSpPr>
        <p:spPr>
          <a:xfrm>
            <a:off x="144360" y="4932360"/>
            <a:ext cx="9720360" cy="1584360"/>
          </a:xfrm>
          <a:prstGeom prst="flowChartAlternateProcess">
            <a:avLst/>
          </a:prstGeom>
          <a:solidFill>
            <a:srgbClr val="00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216000" y="4900680"/>
            <a:ext cx="957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В здании Министерства образования, в местах предоставления государственных услуг, в служебных помещениях, где на регулярной основе осуществляется взаимодействие с гражданами и организациями, размещены объявления антикоррупционного  содержания. В данных помещениях установлены камеры видеонаблюд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26"/>
          <p:cNvSpPr/>
          <p:nvPr/>
        </p:nvSpPr>
        <p:spPr>
          <a:xfrm>
            <a:off x="144360" y="6661080"/>
            <a:ext cx="9720360" cy="468360"/>
          </a:xfrm>
          <a:prstGeom prst="flowChartAlternateProcess">
            <a:avLst/>
          </a:prstGeom>
          <a:solidFill>
            <a:srgbClr val="00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216000" y="6661080"/>
            <a:ext cx="66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ные мер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44360" y="55440"/>
            <a:ext cx="99363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онные, разъяснительные и иные меры по соблюдению гражданскими служащими обязанностей, установленных в целях противодействия коррупц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4360" y="746280"/>
          <a:ext cx="9791640" cy="1736640"/>
        </p:xfrm>
        <a:graphic>
          <a:graphicData uri="http://schemas.openxmlformats.org/drawingml/2006/table">
            <a:tbl>
              <a:tblPr/>
              <a:tblGrid>
                <a:gridCol w="979164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Методические рекомендации по осуществлению комплекса организационных, разъяснительных и иных мер по недопущению должностными лицами поведения, которое может восприниматься окружающими как обещание дачи взятки или предложение дачи взятки либо как согласие принять взятку или как просьба о даче взятки (письмо Министерства труда и социальной защиты Российской Федерации от 10.07.2013 № 18-2/10/2-383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44360" y="2629080"/>
          <a:ext cx="3527640" cy="1223640"/>
        </p:xfrm>
        <a:graphic>
          <a:graphicData uri="http://schemas.openxmlformats.org/drawingml/2006/table">
            <a:tbl>
              <a:tblPr/>
              <a:tblGrid>
                <a:gridCol w="352764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9 году проведено 2 учебы по антикоррупционной тематике с гражданскими служащими Министер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887640" y="2629080"/>
          <a:ext cx="2737080" cy="3022560"/>
        </p:xfrm>
        <a:graphic>
          <a:graphicData uri="http://schemas.openxmlformats.org/drawingml/2006/table">
            <a:tbl>
              <a:tblPr/>
              <a:tblGrid>
                <a:gridCol w="2737080"/>
              </a:tblGrid>
              <a:tr h="31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роведены консультации гражданских служащих по вопросам противодействия коррупци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8 году - 240 индивидуальных и 3 групп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9 году – 244 и 2 соответстве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44360" y="4068720"/>
          <a:ext cx="3527640" cy="1463760"/>
        </p:xfrm>
        <a:graphic>
          <a:graphicData uri="http://schemas.openxmlformats.org/drawingml/2006/table">
            <a:tbl>
              <a:tblPr/>
              <a:tblGrid>
                <a:gridCol w="352764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Начальникам структурных подразделений Министерства выдана литература антикоррупционного содерж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44360" y="5869080"/>
          <a:ext cx="6480360" cy="1325520"/>
        </p:xfrm>
        <a:graphic>
          <a:graphicData uri="http://schemas.openxmlformats.org/drawingml/2006/table">
            <a:tbl>
              <a:tblPr/>
              <a:tblGrid>
                <a:gridCol w="6480360"/>
              </a:tblGrid>
              <a:tr h="13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Информация о работе  Министерства по профилактике коррупционных и иных правонарушений размещается на сайте Министерства в рубрике «Противодействие коррупции», а также на одноименном информационном стенде в здании Министер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840360" y="2629080"/>
          <a:ext cx="3095640" cy="447984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5303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ри проведении конкурса на замещение вакантных должностей конкурсантам в обязательном порядке задаются вопросы о нормах законодательства по противодействию коррупции, об ограничениях, запретах и обязанностях, связанных с прохождением гражданской службой, а также об этике служебного поведения государственных гражданских служащ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22:09:27Z</dcterms:created>
  <dc:creator>Ирина</dc:creator>
  <dc:description/>
  <dc:language>en-US</dc:language>
  <cp:lastModifiedBy>Каратаева Елена Владимировна</cp:lastModifiedBy>
  <cp:lastPrinted>2019-01-23T07:34:59Z</cp:lastPrinted>
  <dcterms:modified xsi:type="dcterms:W3CDTF">2020-01-24T11:52:00Z</dcterms:modified>
  <cp:revision>353</cp:revision>
  <dc:subject/>
  <dc:title>Разработка эффективных механизмов реализации инвестиционных проектов в Свердловской области  Министерство культуры и туризма  Свердловской области</dc:title>
</cp:coreProperties>
</file>