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72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28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4720" y="30312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72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228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370760"/>
            <a:ext cx="292104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4720" y="30312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760" y="437076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720" y="4370760"/>
            <a:ext cx="9072720" cy="238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d0f7"/>
            </a:gs>
            <a:gs pos="50000">
              <a:srgbClr val="b5ddf9"/>
            </a:gs>
            <a:gs pos="100000">
              <a:srgbClr val="97d0f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2087640" y="7308720"/>
            <a:ext cx="7993080" cy="252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7308720"/>
            <a:ext cx="2160720" cy="25272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3048480" y="7292880"/>
            <a:ext cx="74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400" spc="-1" strike="noStrike">
                <a:solidFill>
                  <a:srgbClr val="ffcf01"/>
                </a:solidFill>
                <a:latin typeface="Tahoma"/>
              </a:rPr>
              <a:t>Министерство общего и профессионального образования Свердловской област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0" y="0"/>
            <a:ext cx="3311640" cy="68436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3240000" y="0"/>
            <a:ext cx="6840720" cy="684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d0f7"/>
            </a:gs>
            <a:gs pos="50000">
              <a:srgbClr val="b5ddf9"/>
            </a:gs>
            <a:gs pos="100000">
              <a:srgbClr val="97d0f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87640" y="7308720"/>
            <a:ext cx="7993080" cy="252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7308720"/>
            <a:ext cx="2160720" cy="25272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048480" y="7292880"/>
            <a:ext cx="74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400" spc="-1" strike="noStrike">
                <a:solidFill>
                  <a:srgbClr val="ffcf01"/>
                </a:solidFill>
                <a:latin typeface="Tahoma"/>
              </a:rPr>
              <a:t>Министерство общего и профессионального образования Свердловской област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3311640" cy="252360"/>
          </a:xfrm>
          <a:prstGeom prst="rect">
            <a:avLst/>
          </a:prstGeom>
          <a:gradFill rotWithShape="0">
            <a:gsLst>
              <a:gs pos="0">
                <a:srgbClr val="1192e9"/>
              </a:gs>
              <a:gs pos="100000">
                <a:srgbClr val="000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240000" y="0"/>
            <a:ext cx="6840720" cy="252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"/>
          <p:cNvSpPr/>
          <p:nvPr/>
        </p:nvSpPr>
        <p:spPr>
          <a:xfrm>
            <a:off x="0" y="36360"/>
            <a:ext cx="10080720" cy="7561440"/>
          </a:xfrm>
          <a:prstGeom prst="rect">
            <a:avLst/>
          </a:prstGeom>
          <a:gradFill rotWithShape="0">
            <a:gsLst>
              <a:gs pos="0">
                <a:srgbClr val="002142"/>
              </a:gs>
              <a:gs pos="50000">
                <a:srgbClr val="00478e"/>
              </a:gs>
              <a:gs pos="100000">
                <a:srgbClr val="0021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8" descr="OBL_gerb"/>
          <p:cNvPicPr/>
          <p:nvPr/>
        </p:nvPicPr>
        <p:blipFill>
          <a:blip r:embed="rId1"/>
          <a:stretch/>
        </p:blipFill>
        <p:spPr>
          <a:xfrm>
            <a:off x="3527280" y="0"/>
            <a:ext cx="2880000" cy="20415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026"/>
          <p:cNvSpPr/>
          <p:nvPr/>
        </p:nvSpPr>
        <p:spPr>
          <a:xfrm>
            <a:off x="826920" y="2340000"/>
            <a:ext cx="86061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О выполнении в 2021 году плана работы Министерства образования и молодежной политики Свердловской област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по противодействию коррупции на 2021–2024 годы, утвержденного приказом Министерства образования и молодежной политики Свердловской област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от 16.03.2021 № 266-Д «Об утверждении Плана работы Министерства общего и профессионального образования Свердловской области по противодействию коррупции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d629"/>
                </a:solidFill>
                <a:latin typeface="Tahoma"/>
                <a:ea typeface="Tahoma"/>
              </a:rPr>
              <a:t>на 2021–2024 годы» (с изменениями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246"/>
          <p:cNvSpPr/>
          <p:nvPr/>
        </p:nvSpPr>
        <p:spPr>
          <a:xfrm>
            <a:off x="936720" y="-36360"/>
            <a:ext cx="90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намика количества обращений граждан, содержащих сведения                          о коррупционных проявлениях (по годам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31640" y="1252440"/>
          <a:ext cx="9434520" cy="5241960"/>
        </p:xfrm>
        <a:graphic>
          <a:graphicData uri="http://schemas.openxmlformats.org/drawingml/2006/table">
            <a:tbl>
              <a:tblPr/>
              <a:tblGrid>
                <a:gridCol w="936720"/>
                <a:gridCol w="1297080"/>
                <a:gridCol w="1871640"/>
                <a:gridCol w="2519280"/>
                <a:gridCol w="2809800"/>
              </a:tblGrid>
              <a:tr h="283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ери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бщее количество письменных обращ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обращений, содержащих информацию о коррупционных проявлениях / % от общего числа обращ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личество обращений, содержащих информацию о коррупционных проявлениях, переданных в правоохранительные органы / % от числа обращений, содержащих информацию о коррупционных проявления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Количество обращений, </a:t>
                      </a:r>
                      <a:r>
                        <a:rPr b="0" lang="ru-RU" sz="15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держащих информацию о коррупционных проявлениях, на основании которых образовательные организации были включены в план проверок финансово-хозяйственной деятельности / % от числа обращений, содержащих информацию о коррупционных проявления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bfd"/>
                    </a:solidFill>
                  </a:tcPr>
                </a:tc>
              </a:tr>
              <a:tr h="63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3 / 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 / 6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 / 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9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9 / 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3 /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 / 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 / 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 /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/ 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1 / 0,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 / 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8/ 3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360360" y="7128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-73080" y="36360"/>
            <a:ext cx="100807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направления деятельности Министерства образова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профилактике и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431640" y="755640"/>
            <a:ext cx="9288720" cy="1512720"/>
          </a:xfrm>
          <a:prstGeom prst="roundRect">
            <a:avLst>
              <a:gd name="adj" fmla="val 16667"/>
            </a:avLst>
          </a:prstGeom>
          <a:solidFill>
            <a:srgbClr val="ffcc99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503280" y="684360"/>
            <a:ext cx="9577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333399"/>
                </a:solidFill>
                <a:uFillTx/>
                <a:latin typeface="Tahoma"/>
              </a:rPr>
              <a:t>Основная задача</a:t>
            </a:r>
            <a:r>
              <a:rPr b="0" lang="ru-RU" sz="2300" spc="-1" strike="noStrike">
                <a:solidFill>
                  <a:srgbClr val="333399"/>
                </a:solidFill>
                <a:latin typeface="Tahoma"/>
              </a:rPr>
              <a:t> - совершенствование системы контроля за финансово-хозяйственной деятельностью и профилактики коррупционных правонарушений в подведомственных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Tahoma"/>
              </a:rPr>
              <a:t>Министерству учреждениях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431640" y="241128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4720" y="2359080"/>
            <a:ext cx="892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рганизация работы Комиссии Министерства образования по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12"/>
          <p:cNvSpPr/>
          <p:nvPr/>
        </p:nvSpPr>
        <p:spPr>
          <a:xfrm>
            <a:off x="431640" y="313200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03280" y="306072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нтроль за деятельностью по профилактике и противодействию коррупции в подведомственных учрежден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31640" y="385272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03280" y="378144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Антикоррупционное просвещение гражданских служащих Министерства, руководителей, обучающихся и их родителей, гражда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431640" y="4572000"/>
            <a:ext cx="9288720" cy="6494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503280" y="450072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ведение плановых аудиторских проверок подведомственных учрежд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431640" y="5292720"/>
            <a:ext cx="9288720" cy="64764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503280" y="522144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рганизационные разъяснительные и иные меры с подведомственными учреждениями по профилактике коррупционных правонару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431640" y="6013440"/>
            <a:ext cx="9288720" cy="1008000"/>
          </a:xfrm>
          <a:prstGeom prst="roundRect">
            <a:avLst>
              <a:gd name="adj" fmla="val 16667"/>
            </a:avLst>
          </a:prstGeom>
          <a:solidFill>
            <a:srgbClr val="ccffcc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504720" y="6014880"/>
            <a:ext cx="892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бор сведений о доходах, об имуществе и обязательствах имущественного характера руководителей подведомственных образовательных учреждений и членов их сем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16000" y="36360"/>
            <a:ext cx="98647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онная структура Министерства образования по вопрос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филактики и противодействия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5904000" y="2484360"/>
            <a:ext cx="0" cy="2521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30"/>
          <p:cNvSpPr/>
          <p:nvPr/>
        </p:nvSpPr>
        <p:spPr>
          <a:xfrm>
            <a:off x="287280" y="755640"/>
            <a:ext cx="9433080" cy="936720"/>
          </a:xfrm>
          <a:prstGeom prst="roundRect">
            <a:avLst>
              <a:gd name="adj" fmla="val 16667"/>
            </a:avLst>
          </a:prstGeom>
          <a:solidFill>
            <a:srgbClr val="ccffcc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144360" y="612720"/>
            <a:ext cx="9936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Цель деятельности Министерства образования в сфере противодействия коррупции - устранение причин и условий, порождающих коррупцию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32"/>
          <p:cNvSpPr/>
          <p:nvPr/>
        </p:nvSpPr>
        <p:spPr>
          <a:xfrm>
            <a:off x="1944720" y="1763640"/>
            <a:ext cx="612144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1944720" y="1792440"/>
            <a:ext cx="611964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бщественный совет Министерства образова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(представите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216000" y="3060720"/>
            <a:ext cx="2879640" cy="237492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216000" y="3147840"/>
            <a:ext cx="287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по служебному поведению государственных гражданских служащих Министерства образования и урегулированию конфликта интере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38"/>
          <p:cNvSpPr/>
          <p:nvPr/>
        </p:nvSpPr>
        <p:spPr>
          <a:xfrm>
            <a:off x="3240000" y="3060720"/>
            <a:ext cx="2592360" cy="144000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3384720" y="3035160"/>
            <a:ext cx="230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по противодействию коррупции Министерства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41"/>
          <p:cNvSpPr/>
          <p:nvPr/>
        </p:nvSpPr>
        <p:spPr>
          <a:xfrm>
            <a:off x="6048360" y="2916360"/>
            <a:ext cx="3887640" cy="201600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6119640" y="2846520"/>
            <a:ext cx="38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по проведению конкурсов на замещение вакантных должностей государственной гражданской службы Свердловской области и включения в кадровый резерв Министерства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44"/>
          <p:cNvSpPr/>
          <p:nvPr/>
        </p:nvSpPr>
        <p:spPr>
          <a:xfrm>
            <a:off x="3168720" y="5005440"/>
            <a:ext cx="5111640" cy="934920"/>
          </a:xfrm>
          <a:prstGeom prst="roundRect">
            <a:avLst>
              <a:gd name="adj" fmla="val 16667"/>
            </a:avLst>
          </a:prstGeom>
          <a:solidFill>
            <a:srgbClr val="ffff99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3240000" y="500544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Комиссия для проведения аттестации государственных гражданских служащих Министерства образ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47"/>
          <p:cNvSpPr/>
          <p:nvPr/>
        </p:nvSpPr>
        <p:spPr>
          <a:xfrm>
            <a:off x="4535640" y="2484360"/>
            <a:ext cx="0" cy="576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49"/>
          <p:cNvSpPr/>
          <p:nvPr/>
        </p:nvSpPr>
        <p:spPr>
          <a:xfrm>
            <a:off x="7056360" y="2484360"/>
            <a:ext cx="0" cy="432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50"/>
          <p:cNvSpPr/>
          <p:nvPr/>
        </p:nvSpPr>
        <p:spPr>
          <a:xfrm>
            <a:off x="2232000" y="2484360"/>
            <a:ext cx="0" cy="576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51"/>
          <p:cNvSpPr/>
          <p:nvPr/>
        </p:nvSpPr>
        <p:spPr>
          <a:xfrm>
            <a:off x="287280" y="6156360"/>
            <a:ext cx="9433080" cy="1081080"/>
          </a:xfrm>
          <a:prstGeom prst="roundRect">
            <a:avLst>
              <a:gd name="adj" fmla="val 16667"/>
            </a:avLst>
          </a:prstGeom>
          <a:solidFill>
            <a:srgbClr val="cc99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2"/>
          <p:cNvSpPr/>
          <p:nvPr/>
        </p:nvSpPr>
        <p:spPr>
          <a:xfrm>
            <a:off x="431640" y="6141960"/>
            <a:ext cx="849816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сего в Министерстве образования принято 76 НПА, регулирующих деятельность в сфере противодействия коррупции, из них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5 принято в 2020 году, 8 – в 2021 го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11160"/>
            <a:ext cx="100807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направления деятельности Министерства образован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профилактике и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44360" y="755640"/>
            <a:ext cx="9720360" cy="79200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16000" y="684360"/>
            <a:ext cx="87120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с государственными гражданскими служащими Министерства образования (общая численность – 139 человек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44360" y="1692360"/>
            <a:ext cx="9720360" cy="107928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16000" y="1627200"/>
            <a:ext cx="95774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с подведомственными Министерству образования государственными образовательными учреждениями Свердловской области (общая численность – 179 учреждени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44360" y="2916360"/>
            <a:ext cx="9720360" cy="720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16000" y="2935440"/>
            <a:ext cx="95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абота с иными образовательными организациями по профилактике и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144360" y="3780000"/>
            <a:ext cx="9720360" cy="720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16000" y="3727440"/>
            <a:ext cx="95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беспечение открытости для граждан информации о деятельности Министерства образования, в том числе по противодействию корруп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44360" y="4645080"/>
            <a:ext cx="9720360" cy="720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16000" y="4570560"/>
            <a:ext cx="95043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Мониторинг обращений граждан, содержащих информацию о коррупционных проявлен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14"/>
          <p:cNvSpPr/>
          <p:nvPr/>
        </p:nvSpPr>
        <p:spPr>
          <a:xfrm>
            <a:off x="144360" y="5508720"/>
            <a:ext cx="9720360" cy="107928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87280" y="5437080"/>
            <a:ext cx="94330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филактика коррупционных правонарушений при проведении процедуры государственной (итоговой) аттестации (включая единый государственный экзамен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44360" y="6732720"/>
            <a:ext cx="9720360" cy="504720"/>
          </a:xfrm>
          <a:prstGeom prst="flowChartAlternateProcess">
            <a:avLst/>
          </a:prstGeom>
          <a:solidFill>
            <a:srgbClr val="33cc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287280" y="6732720"/>
            <a:ext cx="575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ahoma"/>
              </a:rPr>
              <a:t>Иные направления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4360" y="-36360"/>
            <a:ext cx="9936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ятельность Комиссии по соблюдению требовани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служебному поведению и урегулированию конфликта интерес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287280" y="971640"/>
            <a:ext cx="979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360" y="828720"/>
          <a:ext cx="9720360" cy="1311120"/>
        </p:xfrm>
        <a:graphic>
          <a:graphicData uri="http://schemas.openxmlformats.org/drawingml/2006/table">
            <a:tbl>
              <a:tblPr/>
              <a:tblGrid>
                <a:gridCol w="9720360"/>
              </a:tblGrid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ложение о Комиссии утверждено приказом Министерства от 19.08.2010 № 262-л                «Об утверждении положения о Комиссии по соблюдению требований к служебному поведению государственными гражданскими служащими Министерства и урегулированию конфликтов интересов» (в новой редакции от 05.09.2014 № 297-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44360" y="2268360"/>
          <a:ext cx="9720360" cy="1311480"/>
        </p:xfrm>
        <a:graphic>
          <a:graphicData uri="http://schemas.openxmlformats.org/drawingml/2006/table">
            <a:tbl>
              <a:tblPr/>
              <a:tblGrid>
                <a:gridCol w="972036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Состав Комиссии утвержден приказом Министерства от 06.05.2013 № 226-л  «Об утверждении состава Комиссии по соблюдению требований к служебному поведению государственными гражданскими служащими Министерства и урегулированию конфликтов интересов» (с изменения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16000" y="378144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9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 заседаний 2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527280" y="378144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2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 заседаний 4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840360" y="3781440"/>
          <a:ext cx="3024360" cy="86364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21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 заседания 6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16000" y="5292720"/>
          <a:ext cx="1800000" cy="184788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185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ведомления бывшего гражданского служаще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20 год – 1 2021 год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6" name="Text Box 124"/>
          <p:cNvSpPr/>
          <p:nvPr/>
        </p:nvSpPr>
        <p:spPr>
          <a:xfrm>
            <a:off x="216000" y="4716360"/>
            <a:ext cx="93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сновные вопросы, рассматриваемы на Комисс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300400" y="5270400"/>
          <a:ext cx="4392360" cy="1844640"/>
        </p:xfrm>
        <a:graphic>
          <a:graphicData uri="http://schemas.openxmlformats.org/drawingml/2006/table">
            <a:tbl>
              <a:tblPr/>
              <a:tblGrid>
                <a:gridCol w="4392360"/>
              </a:tblGrid>
              <a:tr h="2424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7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Соблюдение государственными служащими требований к служебному поведению и урегулированию конфликта интересов (в т.ч. о предоставлении недостоверных сведений о доходах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7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20 год – 2 случаев, 2021 год – 1 случ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40360" y="5267160"/>
          <a:ext cx="3024360" cy="157320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езультаты проверок по фактом представления недостоверных сведений о дохо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20 год – 0 2021 год –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44360" y="108000"/>
            <a:ext cx="9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ятельность Комиссии по противодействию Коррупции Министерст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287280" y="971640"/>
            <a:ext cx="979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360" y="828720"/>
          <a:ext cx="9720360" cy="1224000"/>
        </p:xfrm>
        <a:graphic>
          <a:graphicData uri="http://schemas.openxmlformats.org/drawingml/2006/table">
            <a:tbl>
              <a:tblPr/>
              <a:tblGrid>
                <a:gridCol w="972036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оложение и состав Комиссии утвержден приказом Министерства от 23.12.2014                № 427-Л «О Комиссии по противодействию коррупции Министерства образования и молодежной политики Свердловской области (с изменения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16000" y="234000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16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заседаний 30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527280" y="2340000"/>
          <a:ext cx="3168720" cy="8636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20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 заседаний 20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769080" y="2340000"/>
          <a:ext cx="3166920" cy="86364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1072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21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 заседания 29 вопро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98360" y="3914640"/>
          <a:ext cx="9666360" cy="3033720"/>
        </p:xfrm>
        <a:graphic>
          <a:graphicData uri="http://schemas.openxmlformats.org/drawingml/2006/table">
            <a:tbl>
              <a:tblPr/>
              <a:tblGrid>
                <a:gridCol w="9666360"/>
              </a:tblGrid>
              <a:tr h="3033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б организации работы по противодействию коррупции в подведомственных Министерству учреждениях (в 2019 году заслушано 8 руководителей,                в 2020 году – 4, в 2021 году – 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 результатах устранения нарушений, выявленных в ходе проведения проверок финансово-хозяйственной деятельности учреж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О контроле за исполнением плана Министерства по противодействию корруп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н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7" name="Text Box 124"/>
          <p:cNvSpPr/>
          <p:nvPr/>
        </p:nvSpPr>
        <p:spPr>
          <a:xfrm>
            <a:off x="287280" y="3348000"/>
            <a:ext cx="93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сновные вопросы, рассматриваемы на Комисс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-77760"/>
            <a:ext cx="10080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бор сведений о доходах, расходах, об имуществе и обязательствах имущественного характера государственных служащих Министерства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16000" y="900000"/>
          <a:ext cx="9720000" cy="792360"/>
        </p:xfrm>
        <a:graphic>
          <a:graphicData uri="http://schemas.openxmlformats.org/drawingml/2006/table">
            <a:tbl>
              <a:tblPr/>
              <a:tblGrid>
                <a:gridCol w="972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еречень должностей, замещение которых связано с коррупционными рисками, утвержден приказом Министерства от 29.04.2015 № 177-Л (с изменения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256360" y="1981080"/>
          <a:ext cx="4537080" cy="114300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21 году сведения представили – 69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гражданских служащи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03280" y="1981080"/>
          <a:ext cx="3960720" cy="114300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20 году сведения представили – 68 гражданских служащи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3280" y="3421080"/>
          <a:ext cx="4249800" cy="114300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114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рки достоверности и полноты сведений не проводилис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256360" y="3421080"/>
          <a:ext cx="4537080" cy="352728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4203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дено 45 проверка достоверности и полноты сведений и 1 проверка по осуществлению контроля за расходам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333399"/>
                          </a:solidFill>
                          <a:uFillTx/>
                          <a:latin typeface="Tahoma"/>
                        </a:rPr>
                        <a:t>Результат</a:t>
                      </a: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: к дисциплинарной ответственности привлечены              16 гражданских служащих,                   27 – вынесены предупреждения,                по 2 – фаты не подтвердилис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24000" y="181080"/>
            <a:ext cx="885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Меры по выявлению случаев возникновения конфликта интересов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144360" y="755640"/>
            <a:ext cx="9720360" cy="93672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8920" y="674640"/>
            <a:ext cx="95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Утвержден порядок уведомления Министра о фактах обращения в целях склонения гражданских служащих к совершению коррупционных правонарушений (в 2019–2020 годах подобные уведомления не поступа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18"/>
          <p:cNvSpPr/>
          <p:nvPr/>
        </p:nvSpPr>
        <p:spPr>
          <a:xfrm>
            <a:off x="144360" y="1763640"/>
            <a:ext cx="9720360" cy="194940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58920" y="1719360"/>
            <a:ext cx="95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Утвержден порядок уведомления представителя нанимателя гражданскими служащими о возникновении личной заинтересованности, которая приводит или может привести к конфликту интересов. Заведен журнал регистрации уведомлений (в 2021 году поступило 2 обращения от гражданских служащих, по результатам рассмотрения которых, приняты меры, выразившиеся в изменении должностного положения одного их служащих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AutoShape 21"/>
          <p:cNvSpPr/>
          <p:nvPr/>
        </p:nvSpPr>
        <p:spPr>
          <a:xfrm>
            <a:off x="162000" y="3841920"/>
            <a:ext cx="9720360" cy="180000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341280" y="3757680"/>
            <a:ext cx="957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Утвержден порядок сообщения гражданскими служащими о получении подарка в связи с их должностным положением или исполнением ими служебных (должностных) обязанностей, сдачи и оценки подарка, реализации (выкупа) и зачисления средств, вырученных от его реализации. Заведен журнал регистрации уведомлений (в 2019–2020 подобные уведомления не поступал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24"/>
          <p:cNvSpPr/>
          <p:nvPr/>
        </p:nvSpPr>
        <p:spPr>
          <a:xfrm>
            <a:off x="162000" y="5721480"/>
            <a:ext cx="9720360" cy="1584360"/>
          </a:xfrm>
          <a:prstGeom prst="flowChartAlternateProcess">
            <a:avLst/>
          </a:prstGeom>
          <a:solidFill>
            <a:srgbClr val="00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318960" y="5686560"/>
            <a:ext cx="957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В здании Министерства образования, в местах предоставления государственных услуг, в служебных помещениях, где на регулярной основе осуществляется взаимодействие с гражданами и организациями, размещены объявления антикоррупционного  содержания. В данных помещениях установлены камеры видеонаблюд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44360" y="55440"/>
            <a:ext cx="99363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онные, разъяснительные и иные меры по соблюдению гражданскими служащими обязанностей, установленных в целях противодействия корруп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44360" y="746280"/>
          <a:ext cx="9791640" cy="1736640"/>
        </p:xfrm>
        <a:graphic>
          <a:graphicData uri="http://schemas.openxmlformats.org/drawingml/2006/table">
            <a:tbl>
              <a:tblPr/>
              <a:tblGrid>
                <a:gridCol w="979164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Методические рекомендации по осуществлению комплекса организационных, разъяснительных и иных мер по недопущению должностными лицами поведения, которое может восприниматься окружающими как обещание дачи взятки или предложение дачи взятки либо как согласие принять взятку или как просьба о даче взятки (письмо Министерства труда и социальной защиты Российской Федерации от 10.07.2013 № 18-2/10/2-383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44360" y="2629080"/>
          <a:ext cx="3527640" cy="1223640"/>
        </p:xfrm>
        <a:graphic>
          <a:graphicData uri="http://schemas.openxmlformats.org/drawingml/2006/table">
            <a:tbl>
              <a:tblPr/>
              <a:tblGrid>
                <a:gridCol w="35276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21 году проведена 1 учебы по антикоррупционной тематике с гражданскими служащими Минист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887640" y="2629080"/>
          <a:ext cx="2737080" cy="3022560"/>
        </p:xfrm>
        <a:graphic>
          <a:graphicData uri="http://schemas.openxmlformats.org/drawingml/2006/table">
            <a:tbl>
              <a:tblPr/>
              <a:tblGrid>
                <a:gridCol w="2737080"/>
              </a:tblGrid>
              <a:tr h="31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оведены консультации гражданских служащих по вопросам противодействия коррупци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20 году – 221 индивидуальных                 и 2 групп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21 году – 298                  и 1 соответств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44360" y="4068720"/>
          <a:ext cx="3527640" cy="1463760"/>
        </p:xfrm>
        <a:graphic>
          <a:graphicData uri="http://schemas.openxmlformats.org/drawingml/2006/table">
            <a:tbl>
              <a:tblPr/>
              <a:tblGrid>
                <a:gridCol w="352764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Начальникам структурных подразделений Министерства выдана литература антикоррупционного содерж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44360" y="5869080"/>
          <a:ext cx="6480360" cy="1325520"/>
        </p:xfrm>
        <a:graphic>
          <a:graphicData uri="http://schemas.openxmlformats.org/drawingml/2006/table">
            <a:tbl>
              <a:tblPr/>
              <a:tblGrid>
                <a:gridCol w="6480360"/>
              </a:tblGrid>
              <a:tr h="13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нформация о работе  Министерства по профилактике коррупционных и иных правонарушений размещается на сайте Министерства в рубрике «Противодействие коррупции», а также на одноименном информационном стенде в здании Минист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40360" y="2629080"/>
          <a:ext cx="3095640" cy="447984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5303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При проведении конкурса на замещение вакантных должностей конкурсантам в обязательном порядке задаются вопросы о нормах законодательства по противодействию коррупции, об ограничениях, запретах и обязанностях, связанных с прохождением гражданской службой, а также об этике служебного поведения государственных гражданских служа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4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60360" y="0"/>
            <a:ext cx="9720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0" y="-17640"/>
            <a:ext cx="100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бор сведений о доходах, об имуществе и обязательствах имущественного характера руководителей подведомственных образовательных учрежд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6375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87280" y="1211400"/>
          <a:ext cx="9506160" cy="1488960"/>
        </p:xfrm>
        <a:graphic>
          <a:graphicData uri="http://schemas.openxmlformats.org/drawingml/2006/table">
            <a:tbl>
              <a:tblPr/>
              <a:tblGrid>
                <a:gridCol w="9506160"/>
              </a:tblGrid>
              <a:tr h="14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Указ Губернатора Свердловской области от 15 декабря 2020 года № 700-УГ «О некоторых вопросах организации представления и приема сведений о доходах, расходах, об имуществе и обязательствах имущественного характера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87280" y="3228840"/>
          <a:ext cx="4537080" cy="219420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254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20 году сведения представили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– </a:t>
                      </a: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2 руководител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 63 гражданина, претендующего на замещение должности руководител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256360" y="3211560"/>
          <a:ext cx="4537080" cy="219384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254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2021 году сведения представили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– </a:t>
                      </a: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0 руководител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ru-RU" sz="23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и 75 гражданина, претендующего на замещение должности руководител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2:09:27Z</dcterms:created>
  <dc:creator>Ирина</dc:creator>
  <dc:description/>
  <dc:language>en-US</dc:language>
  <cp:lastModifiedBy>Anton</cp:lastModifiedBy>
  <cp:lastPrinted>2019-01-23T07:34:59Z</cp:lastPrinted>
  <dcterms:modified xsi:type="dcterms:W3CDTF">2022-01-28T07:13:57Z</dcterms:modified>
  <cp:revision>364</cp:revision>
  <dc:subject/>
  <dc:title>Разработка эффективных механизмов реализации инвестиционных проектов в Свердловской области  Министерство культуры и туризма  Свердловской области</dc:title>
</cp:coreProperties>
</file>